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10.wmf" ContentType="image/x-wmf"/>
  <Override PartName="/ppt/media/image9.wmf" ContentType="image/x-wmf"/>
  <Override PartName="/ppt/media/image16.jpeg" ContentType="image/jpeg"/>
  <Override PartName="/ppt/media/image14.wmf" ContentType="image/x-wmf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gif" ContentType="image/gif"/>
  <Override PartName="/ppt/media/image8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BFB4-1604-43F7-87F8-A9FFC8C08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B5A1-54EB-4A3B-B7C8-FF915901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B0E2-3095-4487-BE35-E0D5DA26C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F8B0-99B7-4CED-8C71-F342915AF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4A5D-ACB1-48B0-98AD-E2DCABCC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0C88-F8CB-4EE5-B784-15BF0BF5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5CA1-AC34-451B-B694-EDDBA1D4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6AD3-851A-4B9C-9BBC-4D698328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6D6E-D9C8-4876-9DEE-ED5F4BAB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BC91-E3E8-47A4-AEB3-C122CE1E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674F-FDA4-4370-856A-8DA1450D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8A3B-F3BD-47BC-AE31-81FB98E9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ff"/>
            </a:gs>
            <a:gs pos="100000">
              <a:srgbClr val="ff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45FC-6A51-42E0-ABEE-681A177B740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r y Pa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i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mí, la clase de español es interes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C:\Documents and Settings\grahama\Local Settings\Temporary Internet Files\Content.IE5\EDPIVDAW\MC900104838[1].wmf"/>
          <p:cNvPicPr/>
          <p:nvPr/>
        </p:nvPicPr>
        <p:blipFill>
          <a:blip r:embed="rId1"/>
          <a:stretch/>
        </p:blipFill>
        <p:spPr>
          <a:xfrm rot="1136400">
            <a:off x="6372360" y="5013360"/>
            <a:ext cx="1820880" cy="1139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Documents and Settings\grahama\Local Settings\Temporary Internet Files\Content.IE5\GGMG9NCL\MC900104836[1].wmf"/>
          <p:cNvPicPr/>
          <p:nvPr/>
        </p:nvPicPr>
        <p:blipFill>
          <a:blip r:embed="rId2"/>
          <a:stretch/>
        </p:blipFill>
        <p:spPr>
          <a:xfrm rot="20152200">
            <a:off x="826560" y="4797000"/>
            <a:ext cx="1818000" cy="1040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Documents and Settings\grahama\Local Settings\Temporary Internet Files\Content.IE5\EDPIVDAW\MC900435205[1].wmf"/>
          <p:cNvPicPr/>
          <p:nvPr/>
        </p:nvPicPr>
        <p:blipFill>
          <a:blip r:embed="rId3"/>
          <a:stretch/>
        </p:blipFill>
        <p:spPr>
          <a:xfrm>
            <a:off x="3651120" y="2843280"/>
            <a:ext cx="184176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ssentially,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used in all instances when P.E.R.F.E.C.T.O.does not apply. However, if you like to collect acronyms, here is one to use with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o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.T.R.A.C.T.E.D This acronym covers many, but not all, of the main uses of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There are many idiomatic expressions that us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or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TRAC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when talking abou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ound a pl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rough a pl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fter, as in “going to get someth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an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chan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ound a pla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Hay un banco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quí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j0310602[1]"/>
          <p:cNvPicPr/>
          <p:nvPr/>
        </p:nvPicPr>
        <p:blipFill>
          <a:blip r:embed="rId1"/>
          <a:stretch/>
        </p:blipFill>
        <p:spPr>
          <a:xfrm>
            <a:off x="3276720" y="3141720"/>
            <a:ext cx="302580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hroug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rough a pla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so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l parqu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dos los dí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j0410225[1]"/>
          <p:cNvPicPr/>
          <p:nvPr/>
        </p:nvPicPr>
        <p:blipFill>
          <a:blip r:embed="rId1"/>
          <a:stretch/>
        </p:blipFill>
        <p:spPr>
          <a:xfrm>
            <a:off x="2916360" y="2924280"/>
            <a:ext cx="28954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a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s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qué llegaste tard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l tráfic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1"/>
          <a:stretch/>
        </p:blipFill>
        <p:spPr>
          <a:xfrm>
            <a:off x="3995640" y="357336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f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fter, as in “going to get something”; usually used afte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Vo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l supermercado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an y lech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j0397778[1]"/>
          <p:cNvPicPr/>
          <p:nvPr/>
        </p:nvPicPr>
        <p:blipFill>
          <a:blip r:embed="rId1"/>
          <a:stretch/>
        </p:blipFill>
        <p:spPr>
          <a:xfrm>
            <a:off x="3348000" y="3645000"/>
            <a:ext cx="23954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gué 20 euro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sta chaquet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2916360" y="3838680"/>
            <a:ext cx="273528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nks: us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fter “gracias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Gracia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la ayu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j0104838[1]"/>
          <p:cNvPicPr/>
          <p:nvPr/>
        </p:nvPicPr>
        <p:blipFill>
          <a:blip r:embed="rId1"/>
          <a:stretch/>
        </p:blipFill>
        <p:spPr>
          <a:xfrm>
            <a:off x="2627280" y="3789360"/>
            <a:ext cx="357516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x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chan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uiero cambiar estos zapatos rojo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sos negro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3419640" y="3789360"/>
            <a:ext cx="284004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PERFECT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- Pa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urpo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“in order to”: used together with an infiniti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ff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at something has on something el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cipien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utu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ates, deadlines, or ev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mploymen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mpari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war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 specific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pi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ur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 vivido aquí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ás de diez año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3203640" y="3068640"/>
            <a:ext cx="313200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rpose: “in order t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 utiliza con un infini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udio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aca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uenas no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j0397490[1]"/>
          <p:cNvPicPr/>
          <p:nvPr/>
        </p:nvPicPr>
        <p:blipFill>
          <a:blip r:embed="rId1"/>
          <a:stretch/>
        </p:blipFill>
        <p:spPr>
          <a:xfrm>
            <a:off x="2411280" y="3860640"/>
            <a:ext cx="367344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ffect that something has on something el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y a la universida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rofesor de españ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j0334112[1]"/>
          <p:cNvPicPr/>
          <p:nvPr/>
        </p:nvPicPr>
        <p:blipFill>
          <a:blip r:embed="rId1"/>
          <a:stretch/>
        </p:blipFill>
        <p:spPr>
          <a:xfrm>
            <a:off x="3203640" y="3357720"/>
            <a:ext cx="29415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cipi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cipient: la persona o entidad que recibe al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e regalo es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j0397036[1]"/>
          <p:cNvPicPr/>
          <p:nvPr/>
        </p:nvPicPr>
        <p:blipFill>
          <a:blip r:embed="rId1"/>
          <a:stretch/>
        </p:blipFill>
        <p:spPr>
          <a:xfrm>
            <a:off x="3564000" y="3357720"/>
            <a:ext cx="3089160" cy="29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uture dates, deadlines, or ev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a tarea es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añan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 el proyecto es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 lun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j0351921[1]"/>
          <p:cNvPicPr/>
          <p:nvPr/>
        </p:nvPicPr>
        <p:blipFill>
          <a:blip r:embed="rId1"/>
          <a:stretch/>
        </p:blipFill>
        <p:spPr>
          <a:xfrm>
            <a:off x="3132000" y="3573360"/>
            <a:ext cx="345600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mploy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 empl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bajo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 restaurante chilen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3635280" y="3213000"/>
            <a:ext cx="122724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mpari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ara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 niñ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 cinco años, lee y escribe muy b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2771640" y="3789360"/>
            <a:ext cx="3456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o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ing towards somewhere (hac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in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l par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j0396786[1]"/>
          <p:cNvPicPr/>
          <p:nvPr/>
        </p:nvPicPr>
        <p:blipFill>
          <a:blip r:embed="rId1"/>
          <a:stretch/>
        </p:blipFill>
        <p:spPr>
          <a:xfrm>
            <a:off x="3132000" y="3284640"/>
            <a:ext cx="29527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1:35:49Z</dcterms:created>
  <dc:creator>slunn</dc:creator>
  <dc:description/>
  <dc:language>en-US</dc:language>
  <cp:lastModifiedBy>grahama</cp:lastModifiedBy>
  <dcterms:modified xsi:type="dcterms:W3CDTF">2012-04-27T12:56:39Z</dcterms:modified>
  <cp:revision>10</cp:revision>
  <dc:subject/>
  <dc:title>Slide 1</dc:title>
</cp:coreProperties>
</file>